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33-8B3E-49ED-B3B0-0FE6FEEE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1BD-BDDA-4ADC-AB22-8B324AD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2EF-3639-4DBE-B7C5-BE658BD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82B-4606-4456-B461-6A0D01C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E63-B51C-4E72-9700-3E5E3CC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909-074F-4BE1-9289-ABFDA9D2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DBA-C8B8-441E-A03A-680F4D3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CCA-7500-425D-ABFD-A65C4AA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0F5-908B-49E6-8CA0-270027A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816-9A5A-47E2-9421-E119B57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0D9-B880-4420-B73F-AF1BB8F5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3A9-4DAA-4ACD-8116-B12B94F4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3FA-D9EB-432D-8718-7EED86574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sequesntial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5" name="WordArt 3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49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2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3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>
                <a:gd name="textAreaLeft" fmla="*/ 0 w 1715040"/>
                <a:gd name="textAreaRight" fmla="*/ 1715400 w 171504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>
                <a:gd name="textAreaLeft" fmla="*/ 0 w 70920"/>
                <a:gd name="textAreaRight" fmla="*/ 70920 w 709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>
                <a:gd name="textAreaLeft" fmla="*/ 0 w 727200"/>
                <a:gd name="textAreaRight" fmla="*/ 727560 w 72720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>
                <a:gd name="textAreaLeft" fmla="*/ 0 w 43200"/>
                <a:gd name="textAreaRight" fmla="*/ 43200 w 432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38520"/>
                <a:gd name="textAreaBottom" fmla="*/ 1838880 h 1838520"/>
              </a:gdLst>
              <a:ahLst/>
              <a:rect l="textAreaLeft" t="textAreaTop" r="textAreaRight" b="textAreaBottom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765720"/>
                <a:gd name="textAreaBottom" fmla="*/ 766080 h 765720"/>
              </a:gdLst>
              <a:ahLst/>
              <a:rect l="textAreaLeft" t="textAreaTop" r="textAreaRight" b="textAreaBottom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>
                <a:gd name="textAreaLeft" fmla="*/ 0 w 848160"/>
                <a:gd name="textAreaRight" fmla="*/ 848520 w 84816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20760"/>
                <a:gd name="textAreaBottom" fmla="*/ 320760 h 320760"/>
              </a:gdLst>
              <a:ahLst/>
              <a:rect l="textAreaLeft" t="textAreaTop" r="textAreaRight" b="textAreaBottom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notebook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3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lecture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summary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5" name="WordArt 3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APES Cornell notes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84464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6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0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4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8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students collaboratin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8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499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4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503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507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9209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3" name="Picture 26" descr="concept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66680" y="473040"/>
            <a:ext cx="7813800" cy="2959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3" name="WordArt 4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Administrator</cp:lastModifiedBy>
  <cp:lastPrinted>2001-08-14T21:30:16Z</cp:lastPrinted>
  <dcterms:modified xsi:type="dcterms:W3CDTF">2007-10-11T00:55:11Z</dcterms:modified>
  <cp:revision>145</cp:revision>
  <dc:subject/>
  <dc:title>PowerPoint Presentation</dc:title>
</cp:coreProperties>
</file>